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E089-AA40-40DB-920A-4F79A739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D51B-BCE7-433A-A7F8-949EDFC1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1CD11-89E1-490C-A562-F1F8F887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65CF6-BE18-42AD-8F22-4216E02E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565A5-5BED-4976-ACB7-56CBFB90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DDC5B-365D-47B7-BAB0-828D9B7D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4EB5A-E1F0-4BE5-82AB-ED926EF9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30287-CC66-415F-B67F-921CE0BC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1AD54-B74C-46C5-846A-DCE70BAD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9D608-02FD-4A8B-952A-65716D0E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7D8D9-5DD4-4A90-A758-F8719C3A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79690-3B09-4149-9C24-1A9B6E57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7899-4C29-4CFF-9E8E-D038B459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6090B-3327-4CD5-B60C-3E4D9F00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D4C5C-B5D6-49FF-9BDB-6C4A2991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862C7-BCFB-4662-B408-2E6FD3AD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D2279-9BB0-41AC-ACFB-BE591CCE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B8F81-0F45-47D8-B638-327A1FB7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1CE47-35D0-4B49-A6CE-14F58623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FA683-BA7E-4B00-B6B1-428E4CD8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7E21D-53DC-4074-9FCF-0BB97818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32863-86C1-49DC-A782-AE6E51B9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20DE7-A1E4-41B3-A05E-F3D4A1DB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F982-2DE1-4F85-9A71-55B71548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31592-774D-438B-91B0-05C80734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38371-B3B5-475B-9DBF-6A7CECCC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0BEE0-3547-455F-A05A-7DE7C8AB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53217-FFE1-4758-8565-3793DC9F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079C6-9D58-4D17-8586-61EE74B4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851DC-B858-4A2A-9A8C-C714C5C2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A64CF-20BE-4BF1-B476-138F9CB2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27676-1199-4ECA-A29B-39B0246B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0DD68-A359-438E-852F-DE44E135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A4F2D-4AB7-4E84-9898-EFED35E7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7415-AA8E-4187-83E4-6EEFB733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0B331-0545-44C9-BD6D-CD8C3789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6735B-BFE0-484C-A207-41177490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705CA-C6E6-4B18-829B-9F92C9F8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10557-2C7C-43EB-AC7D-A8303E58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9C9D3-F918-4FD7-9DDA-F172D0B5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60A7B-26A1-44A2-9FCE-177CA64C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52BCF-0C6C-4733-8AEA-ECB970A0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4AEEC-FDDC-43BE-A803-F0884D65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57E16-FD14-4304-BD84-62EAF7E3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6AFFA-E859-4E34-82C6-B8EB8E0B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D0BC-35FB-4E32-A52F-BCCF8342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AAA73-4F4F-44BF-A83C-5274FD76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343B6-BD25-4405-83A9-00A06F9A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5F2F9-9DDB-40F7-B0D2-F52BA516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DD0E8-F0CF-4C3C-AEF3-38E21CA9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ECD35-592A-4405-8178-DAEA127F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048A1-7E66-426D-A8F5-8DF552C8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E81773-7AB2-47B8-9519-0D67052B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9422B7-A3F4-40EA-A662-1760B8CB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3030CA-C122-42E5-BBA9-0284FEAB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E959BB-74A0-47F8-B00B-6E00256C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1518-E639-468A-87C5-77ABCF36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39996-D6AD-49A4-AC3C-99326CA3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849221-DB96-461E-B083-32EADED7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71762-CD0E-4EEE-80E6-5CE78A46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7B4D0-35E6-418E-9295-141B3E3A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25C606-E4B5-4312-AB55-FCD1EDEB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1ACAE5-74A0-4736-9008-C2401579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27AB5-FCC3-4C90-9EF0-C0C0ADF5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6D9C8C-CE8B-45CD-ACBF-489F9908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4914F5-4BAD-4CB3-BAA0-18A7D146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9D50C0-1387-49E3-8216-B19DFFA6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D7D1-1E3B-4FD8-9AA0-9E056A27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D5717C-512B-4519-A60B-75472CAD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9AD0A2-8BBF-471C-AC39-8FF0CB22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77CF91-FD4F-4B39-A182-3D51D2C6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255DA3-01ED-400A-A071-7005EC2D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801D05-A06B-43D9-BD77-F98EE5EE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41C224-AEB9-4054-813D-931CA305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EBCEAA-7A00-4D41-9D4C-2B76DE5D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43FA44-01AE-4AC5-BE2D-2E5F13D3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91D2E1-C849-4D43-9B95-C47837B1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9AC90B-F16F-4B1D-B4C8-FF65F672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B6A3-2B71-438D-A552-F037DFB1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BF49BD-F5E9-4AA9-97EC-9037D8E5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602345-235E-4188-A12C-C81082E2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455349-79B0-48F6-BDA5-2BC6B897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C66C3B-69CC-4E20-880B-C267AD6E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11047F-B5E3-4B72-AF1D-A201CA05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7DD97C-1F7F-4DCF-B16B-D6F6CDE3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BB2450-E56C-4B3C-A9CD-02FE07D7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650E2F-CDC7-436C-B20F-7D97B4BE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977B53-6C28-4401-B650-5E569559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9A0DBF-CD4F-486E-B840-E4B699B1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F657-14DA-4A2A-9739-3F17A7EE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08CFFD-0724-41A5-B2E1-40E72E81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D22543-C461-44B6-801E-D3177819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3F353D-6E41-49D9-8F8E-C1486D5C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8E5456-2542-4E7E-BE53-FB0F5077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36B719-C81A-4651-B906-D9E24EBA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EA7BAB-07B1-423E-85EB-C6DBA97C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0AB3B4-4E76-4D89-9FC8-8C5F1D8F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F20E6C-2599-43A9-9281-7918475F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518593-2752-4403-A265-F9C77938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E9D621-10D6-489D-923F-1B4BCF8E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0007-6F97-4C8D-B971-CFE2BF16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3C2E41-A5AF-4052-9B0F-8D6252F4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C72408-F57B-4A32-AA16-7C531E75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6CB97A-349B-405F-B100-62D2AE90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FA9C0D-979F-49AE-A65D-C886F51D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AC0FBD-337D-4CFF-B386-88FF8DB0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E25945-2777-45BB-B95A-64C76F8E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FBF5FD-F29A-42C5-AC43-7DAD14B3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5C8082-7233-46B0-8954-18529640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86A642-4F72-4961-B04C-B318470E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50B131-C2F8-4DFC-9ADC-3A39BB82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872-BBB3-425E-8B44-2533E2B5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BBC9-5B8D-4CEE-8885-15A98714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A34BD2-FE38-48AE-94D6-E1D22382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7AE208-D696-4D91-A329-ED55A2E4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730BAF-67BA-49EF-A600-8B0B0BE4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9E0134-9024-4348-B205-0CE8346D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C406DE-DCD1-4218-9C48-532828D6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8BB655-BB65-4281-8914-85F3F805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3BABA6-44EC-4950-923B-2D23FDD0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F1AE59-5148-4776-BED5-4359AA67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E10706-3DFF-4AAE-A374-F7766AFF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A7FD76-F000-41C3-B78C-69B4AA11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008C-D3E2-465D-9967-D42CDB40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5B50A8-EEF7-4AC5-8C18-2BDBFFF7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A2C709-064B-48E9-B24F-A3DA3553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144949-6F23-4BB8-87B9-8BAC049E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638BA2-CDE6-4880-B39A-F6F97A95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ACAC0B-8C00-4861-ADD8-06B01588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5F3EFD-5483-40C0-A877-35F5AB71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0B9080-7C56-4231-B857-C3F469AD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37DF90-E4F7-4EB2-8D52-254D0A27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F63F80-4E7C-4F49-A6EF-B3D35585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AA68F9-781A-4744-B3B1-4F2841DA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8FA2-1754-49A8-B30D-63103A47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660002-864E-44D7-855D-B1EE0BD1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93EB7F-F86F-4CFD-A96E-AE1A39F7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F919E5-7380-42DA-AD4D-2ABC3CD3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E22EEB-A8AD-428B-8F71-A9363F97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B3C351-D6E3-4DC9-ADCE-25D450AC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4E4ACE-DA1D-4DA7-B51E-A4FD7EB0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CB48D1-F702-4F73-AAC1-05DC2ECC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99A677-1A20-45AC-8795-32853913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14C1B8-F387-40FC-9A5A-DA72890F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7F40FA-5549-471B-AB59-CF53C0A2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7E0E-BC99-432E-897C-0132AC70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653D91-5DBB-42C5-88D9-09F43B67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11E92B-5A3F-4BEB-9367-8AABA34E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E5DD77-734F-4561-9B15-17A2475D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B083D1-D3F6-43CA-8C92-FEB012E5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52B7D6-9A65-4D9E-9694-63504DAC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F6E791-0061-4E18-908F-571BDBC4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195612-FF06-4522-9CAE-6964A3A4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207DAD-0A38-494A-A99A-CD07C812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73B6CC-7F51-45EE-969C-C6DA78AC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99CD50-303F-4E39-9A59-A734602B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6F49-7025-4362-A12F-2ECB1A45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88044E-3BCF-41BB-97A3-B880C240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293F39-7E23-4258-B1F5-33189797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4A8DFE-A907-4D2F-8393-594F618B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0EC6E5-18B7-437A-949E-06D40007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CD966C-98A5-4598-B5BF-AE152764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CD6440-99FD-4B98-96DA-8C3E8116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D93D5D-31AA-4DDA-AB8F-A082614B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A8917C-B558-47DA-8941-FC28F877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075443-EF47-49D9-ABDC-0367BAD6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24933E-317E-44BD-8C6D-77DCF577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8C33C-6E51-4442-8C6B-94B28235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38CCEF-B460-4936-B568-791B71C2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85EAF2-9803-45A1-B2AB-F15DCED6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666C1C-1D77-4AF2-83E2-695530C2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17012-87A9-4AD9-BC3F-0E3863DD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9455D-C2F3-4491-965C-324B2B30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A4512-41E9-4080-8938-43319736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019C0-EAC1-468E-AFEA-94806074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4613-F6F1-4AB2-A94C-CB3BAF91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13A6D-802B-48F4-B443-D2275E1B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DEB13-F469-4BF9-BB22-F0560997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1D6AD-26BA-4590-828D-268C6959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647EE-24B4-4ABB-BC32-4EE8D2B2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35C1E-F195-46DF-A59D-DDC6C896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EF488-1B20-4FF2-B5A8-CDEFFB1D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69989-8147-4511-8325-460984DE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706D0-5E42-4583-82E6-5E96D7F5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268BB-6932-4946-BB81-CE4310A9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A9429-AF12-4579-86B4-068F56D7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992E-E095-43A0-ABD7-29E94F77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DBBDC-7807-4D02-8B91-0163A8B6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78356-90BB-4219-914B-DDB40A44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4701F-18D1-4A68-A4C4-2BE59E5B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DCA49-566E-4F70-8EC4-2F96EABE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85D82-DDCD-4F22-A05E-ED3570CC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DFFAB-A9A1-463B-8ADC-7DF5BF26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8B3B1-C99A-425D-89D3-FB6A89EC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F3542-E0C7-4983-A61B-35FAB87C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F0787-3859-4535-89EF-8125C866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F4BDF-54B2-411B-BCA1-899AD62D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641C-9473-4257-BD30-5BB42E5F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209B8-2937-466F-A494-6516BA8C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7262D-7599-4696-8076-9AD8ED18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80103-455B-401D-AAB8-71FC2DF9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AC547-33F1-429E-AC23-ED888B3D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F772E-7098-4522-BD24-85657610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ACCCD-D895-40DC-9B89-ECB98AFA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256E5-574F-4FD7-95A3-1CC8E3B3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210CC-0F58-4197-A0CB-8B3CF80D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4C739-4311-4544-B424-1C1734F2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BC7A9-C47B-43E3-9508-1588B9B6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E26-9849-4299-B181-428FC320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61F37-D37B-4653-8089-CD4E44FA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9A143-FAA8-4CCD-B4A3-A049B3FA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FF557-BE14-4DF0-9247-6B30186B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97F99-A642-4014-B1BF-6F27DBC5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D62B9-3204-4F1E-A935-0C365E39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B012A-B326-4C0F-89FF-B2B874FF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4D5B7-7B8B-43E6-A2FA-13D12FBD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4CF8E-35CA-45E2-9F2E-84EAC9DB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227AA-09A1-46D8-8BA2-E584DB00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CC4A8-F003-4565-8AF0-66E3826E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046E-82B1-49F5-B346-AD04AA59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487D6-A9F9-47A7-BC3B-C0000327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2B72D-C335-44A5-B51B-7E03641B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707A0-B5BD-4EB2-B954-68D90B56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18F67-40B0-4DCA-9B0F-C0C1807D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0CD96-8ED1-4DD6-8DEB-394E8B0B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EC393-7B6F-4221-B09C-8E9698D1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C7C5C-ECBE-44B7-ACE2-AF31CDE6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8E360-045B-4D72-A3B7-DBEF4288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37A20-51B0-47EB-B3C3-96F9B10E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26BF7-EAA9-4AA2-BB7D-6C62D1D4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065-ED01-41EB-BEDA-EDCAECDE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4B127-5564-41EA-8750-E379A046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501B7-E9E5-4CC4-8A63-15F5AD05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1EFC4-920F-4875-9F29-5DB8B989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8FB16-03F5-4364-93E6-1389C9CB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20919-10B8-403A-B91B-6C5D2EBF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4FB75-7529-472B-A50A-323E7353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FDF71-63C4-4B8F-84EC-AA875B01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82D8A-AEE7-4B3B-8B6A-3DE777D2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A3E1E-BCF1-4367-9831-943405CE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4FE79-0064-4F5E-AF1F-960E5D5F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F4E7-1886-4767-8AD6-AF31A704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1B03B-E043-4DF7-B597-5069DD8F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40AFF-7AA6-4628-A317-CC55A2D7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62870-9F52-4EAC-8842-3D3BE7BF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19A9F-FD44-4176-A5AE-7A2F591E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45467-2140-415D-A35B-7F832D02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844A4-9209-4172-8A23-ED5BA00F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7E92D-F1FE-4D12-8D25-CC3C6288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AF722-A2B2-4F1D-87EA-2B031E75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76843-54CF-4C19-A400-A3010BE9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FE142-6241-40F1-9FE4-44915406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2A00-8AB0-4058-A572-A6EEF24F2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C711-607F-4DEE-A68D-C704F3F24C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DA96-020C-4E2D-A81C-A16BE10D2B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9663-FE00-4444-9EFF-05CD72A223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F3FF-78C6-4AFA-9229-7F5810AEB0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702B-5DBE-424F-A8E1-C1F50DFA95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0F49-1137-46C7-B821-74CCA01DB0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0DB4-E8CA-4D22-BBC7-43A44875CF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45BD-B3D0-45F7-95CB-4FE78D4319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E586-A6CF-4168-BA27-FB1AB6BF1E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FBBA-6F4C-408C-A960-B8191D2039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662B-129B-4E22-AA3E-1A80EE095B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667E-7B97-44D7-A8FC-469398282D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ADD3-B2E9-4155-8E74-4DA786D6BB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63EF-909D-4CF6-BF69-36C5385012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DACA-68F9-4AE5-A92A-9146E7A8DF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C7D1-F461-4B16-BA89-ADF2746E2F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6B77-D7D6-4288-940A-1943E69D79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06B7-E669-4D97-A5D7-08C97FCB26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3AD9-F897-4847-A8F1-042A1AD57A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D189-5132-433C-BCCA-3A3E9BB2EC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C134-00A3-41F5-8283-35831936CD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AA13-9EBA-483E-A625-1D48A070A2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0BA1-8B64-41E2-97E5-AE30B92971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5D7E-B13B-4851-86DF-A063A77B1A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ACEE-5384-403E-AF7E-DFDE210DCF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CAC2-A51C-4204-BDD9-2725869A67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8F19-CE49-4593-8BB4-329125BAA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D33B-9F54-4C58-825E-1CC452851B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CD79-E3EC-4E05-9BF2-1025300B31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C0A6-3BBB-4384-BA98-F9F14CC80D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7BC0-829D-419B-9A9B-E6E9B20A44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D7AE-F3C7-43F4-877B-591929547B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C27D-D83F-4073-8E61-6C768E81E6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F9FA-764D-4629-85B9-1C2F1AD96E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35BD-9DE6-4B5F-95BD-7080FB0C0B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3D7E-669B-467B-8D4E-0CFF3122B5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A467-DD35-4DA8-BEB5-6BA0EDDAFD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E9B5-2D0F-496C-8D3F-FF0FD4A97E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EC47-830B-420C-96C3-9F132ED2AA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495360" y="3191040"/>
            <a:ext cx="8153280" cy="4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图片 1" descr=""/>
          <p:cNvPicPr/>
          <p:nvPr/>
        </p:nvPicPr>
        <p:blipFill>
          <a:blip r:embed="rId1"/>
          <a:stretch/>
        </p:blipFill>
        <p:spPr>
          <a:xfrm>
            <a:off x="828720" y="1184400"/>
            <a:ext cx="7486560" cy="51418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2"/>
          <a:stretch/>
        </p:blipFill>
        <p:spPr>
          <a:xfrm>
            <a:off x="250920" y="123840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3"/>
          <a:stretch/>
        </p:blipFill>
        <p:spPr>
          <a:xfrm>
            <a:off x="250920" y="171468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4"/>
          <a:stretch/>
        </p:blipFill>
        <p:spPr>
          <a:xfrm>
            <a:off x="250920" y="226224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5"/>
          <a:stretch/>
        </p:blipFill>
        <p:spPr>
          <a:xfrm>
            <a:off x="250920" y="2725560"/>
            <a:ext cx="8772480" cy="4194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" descr=""/>
          <p:cNvPicPr/>
          <p:nvPr/>
        </p:nvPicPr>
        <p:blipFill>
          <a:blip r:embed="rId6"/>
          <a:stretch/>
        </p:blipFill>
        <p:spPr>
          <a:xfrm>
            <a:off x="250920" y="3225960"/>
            <a:ext cx="8772480" cy="8110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7"/>
          <a:stretch/>
        </p:blipFill>
        <p:spPr>
          <a:xfrm>
            <a:off x="250920" y="4081320"/>
            <a:ext cx="8772480" cy="4194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4" descr=""/>
          <p:cNvPicPr/>
          <p:nvPr/>
        </p:nvPicPr>
        <p:blipFill>
          <a:blip r:embed="rId8"/>
          <a:stretch/>
        </p:blipFill>
        <p:spPr>
          <a:xfrm>
            <a:off x="250920" y="4583160"/>
            <a:ext cx="8772480" cy="8319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"/>
          <p:cNvPicPr/>
          <p:nvPr/>
        </p:nvPicPr>
        <p:blipFill>
          <a:blip r:embed="rId9"/>
          <a:stretch/>
        </p:blipFill>
        <p:spPr>
          <a:xfrm>
            <a:off x="250920" y="5391000"/>
            <a:ext cx="8772480" cy="41940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" descr=""/>
          <p:cNvPicPr/>
          <p:nvPr/>
        </p:nvPicPr>
        <p:blipFill>
          <a:blip r:embed="rId10"/>
          <a:stretch/>
        </p:blipFill>
        <p:spPr>
          <a:xfrm>
            <a:off x="250920" y="5891040"/>
            <a:ext cx="8772480" cy="4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图片 1" descr=""/>
          <p:cNvPicPr/>
          <p:nvPr/>
        </p:nvPicPr>
        <p:blipFill>
          <a:blip r:embed="rId1"/>
          <a:stretch/>
        </p:blipFill>
        <p:spPr>
          <a:xfrm>
            <a:off x="318960" y="1171440"/>
            <a:ext cx="850428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图片 1" descr=""/>
          <p:cNvPicPr/>
          <p:nvPr/>
        </p:nvPicPr>
        <p:blipFill>
          <a:blip r:embed="rId1"/>
          <a:stretch/>
        </p:blipFill>
        <p:spPr>
          <a:xfrm>
            <a:off x="566640" y="1290600"/>
            <a:ext cx="8008920" cy="427680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" descr=""/>
          <p:cNvPicPr/>
          <p:nvPr/>
        </p:nvPicPr>
        <p:blipFill>
          <a:blip r:embed="rId2"/>
          <a:stretch/>
        </p:blipFill>
        <p:spPr>
          <a:xfrm>
            <a:off x="3214800" y="4108320"/>
            <a:ext cx="642960" cy="4032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" descr=""/>
          <p:cNvPicPr/>
          <p:nvPr/>
        </p:nvPicPr>
        <p:blipFill>
          <a:blip r:embed="rId3"/>
          <a:stretch/>
        </p:blipFill>
        <p:spPr>
          <a:xfrm>
            <a:off x="1500120" y="5072040"/>
            <a:ext cx="85716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图片 1" descr=""/>
          <p:cNvPicPr/>
          <p:nvPr/>
        </p:nvPicPr>
        <p:blipFill>
          <a:blip r:embed="rId1"/>
          <a:stretch/>
        </p:blipFill>
        <p:spPr>
          <a:xfrm>
            <a:off x="568440" y="738360"/>
            <a:ext cx="8008920" cy="60562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4" descr=""/>
          <p:cNvPicPr/>
          <p:nvPr/>
        </p:nvPicPr>
        <p:blipFill>
          <a:blip r:embed="rId2"/>
          <a:stretch/>
        </p:blipFill>
        <p:spPr>
          <a:xfrm>
            <a:off x="250920" y="1214280"/>
            <a:ext cx="8772480" cy="4194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4" descr=""/>
          <p:cNvPicPr/>
          <p:nvPr/>
        </p:nvPicPr>
        <p:blipFill>
          <a:blip r:embed="rId3"/>
          <a:stretch/>
        </p:blipFill>
        <p:spPr>
          <a:xfrm>
            <a:off x="250920" y="166680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4"/>
          <a:stretch/>
        </p:blipFill>
        <p:spPr>
          <a:xfrm>
            <a:off x="250920" y="221472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4" descr=""/>
          <p:cNvPicPr/>
          <p:nvPr/>
        </p:nvPicPr>
        <p:blipFill>
          <a:blip r:embed="rId5"/>
          <a:stretch/>
        </p:blipFill>
        <p:spPr>
          <a:xfrm>
            <a:off x="250920" y="271476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4" descr=""/>
          <p:cNvPicPr/>
          <p:nvPr/>
        </p:nvPicPr>
        <p:blipFill>
          <a:blip r:embed="rId6"/>
          <a:stretch/>
        </p:blipFill>
        <p:spPr>
          <a:xfrm>
            <a:off x="250920" y="3203640"/>
            <a:ext cx="8772480" cy="80964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4" descr=""/>
          <p:cNvPicPr/>
          <p:nvPr/>
        </p:nvPicPr>
        <p:blipFill>
          <a:blip r:embed="rId7"/>
          <a:stretch/>
        </p:blipFill>
        <p:spPr>
          <a:xfrm>
            <a:off x="250920" y="402120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4" descr=""/>
          <p:cNvPicPr/>
          <p:nvPr/>
        </p:nvPicPr>
        <p:blipFill>
          <a:blip r:embed="rId8"/>
          <a:stretch/>
        </p:blipFill>
        <p:spPr>
          <a:xfrm>
            <a:off x="250920" y="4570560"/>
            <a:ext cx="8772480" cy="76176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4" descr=""/>
          <p:cNvPicPr/>
          <p:nvPr/>
        </p:nvPicPr>
        <p:blipFill>
          <a:blip r:embed="rId9"/>
          <a:stretch/>
        </p:blipFill>
        <p:spPr>
          <a:xfrm>
            <a:off x="250920" y="536724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4" descr=""/>
          <p:cNvPicPr/>
          <p:nvPr/>
        </p:nvPicPr>
        <p:blipFill>
          <a:blip r:embed="rId10"/>
          <a:stretch/>
        </p:blipFill>
        <p:spPr>
          <a:xfrm>
            <a:off x="250920" y="583092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4" descr=""/>
          <p:cNvPicPr/>
          <p:nvPr/>
        </p:nvPicPr>
        <p:blipFill>
          <a:blip r:embed="rId11"/>
          <a:stretch/>
        </p:blipFill>
        <p:spPr>
          <a:xfrm>
            <a:off x="250920" y="6319800"/>
            <a:ext cx="877248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1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6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1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3" descr=""/>
          <p:cNvPicPr/>
          <p:nvPr/>
        </p:nvPicPr>
        <p:blipFill>
          <a:blip r:embed="rId1"/>
          <a:stretch/>
        </p:blipFill>
        <p:spPr>
          <a:xfrm>
            <a:off x="114480" y="792000"/>
            <a:ext cx="8915400" cy="58770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5072040" y="2786040"/>
            <a:ext cx="649440" cy="3301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7786800" y="2786040"/>
            <a:ext cx="649080" cy="3301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4143240" y="3643200"/>
            <a:ext cx="1928880" cy="330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5"/>
          <a:stretch/>
        </p:blipFill>
        <p:spPr>
          <a:xfrm>
            <a:off x="7500960" y="3643200"/>
            <a:ext cx="1214280" cy="330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6"/>
          <a:stretch/>
        </p:blipFill>
        <p:spPr>
          <a:xfrm>
            <a:off x="928800" y="4060800"/>
            <a:ext cx="64908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286400" cy="52768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2"/>
          <a:stretch/>
        </p:blipFill>
        <p:spPr>
          <a:xfrm>
            <a:off x="285840" y="1500120"/>
            <a:ext cx="8715240" cy="3762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3"/>
          <a:stretch/>
        </p:blipFill>
        <p:spPr>
          <a:xfrm>
            <a:off x="285840" y="1909800"/>
            <a:ext cx="8715240" cy="3762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4"/>
          <a:stretch/>
        </p:blipFill>
        <p:spPr>
          <a:xfrm>
            <a:off x="285840" y="2279520"/>
            <a:ext cx="8715240" cy="374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5"/>
          <a:stretch/>
        </p:blipFill>
        <p:spPr>
          <a:xfrm>
            <a:off x="285840" y="2814480"/>
            <a:ext cx="8715240" cy="3765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6"/>
          <a:stretch/>
        </p:blipFill>
        <p:spPr>
          <a:xfrm>
            <a:off x="285840" y="3267000"/>
            <a:ext cx="8715240" cy="7826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7"/>
          <a:stretch/>
        </p:blipFill>
        <p:spPr>
          <a:xfrm>
            <a:off x="285840" y="4191120"/>
            <a:ext cx="8715240" cy="5950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8"/>
          <a:stretch/>
        </p:blipFill>
        <p:spPr>
          <a:xfrm>
            <a:off x="285840" y="4838760"/>
            <a:ext cx="8715240" cy="3762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9"/>
          <a:stretch/>
        </p:blipFill>
        <p:spPr>
          <a:xfrm>
            <a:off x="285840" y="5310360"/>
            <a:ext cx="8715240" cy="5680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10"/>
          <a:stretch/>
        </p:blipFill>
        <p:spPr>
          <a:xfrm>
            <a:off x="285840" y="5923080"/>
            <a:ext cx="8715240" cy="37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2" descr=""/>
          <p:cNvPicPr/>
          <p:nvPr/>
        </p:nvPicPr>
        <p:blipFill>
          <a:blip r:embed="rId1"/>
          <a:stretch/>
        </p:blipFill>
        <p:spPr>
          <a:xfrm>
            <a:off x="152280" y="966960"/>
            <a:ext cx="8839440" cy="54864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2"/>
          <a:stretch/>
        </p:blipFill>
        <p:spPr>
          <a:xfrm>
            <a:off x="285840" y="2232000"/>
            <a:ext cx="8715240" cy="374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3"/>
          <a:stretch/>
        </p:blipFill>
        <p:spPr>
          <a:xfrm>
            <a:off x="285840" y="2695680"/>
            <a:ext cx="8715240" cy="3762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4"/>
          <a:stretch/>
        </p:blipFill>
        <p:spPr>
          <a:xfrm>
            <a:off x="285840" y="3119400"/>
            <a:ext cx="8715240" cy="6573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5"/>
          <a:stretch/>
        </p:blipFill>
        <p:spPr>
          <a:xfrm>
            <a:off x="285840" y="3905280"/>
            <a:ext cx="8715240" cy="6080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6"/>
          <a:stretch/>
        </p:blipFill>
        <p:spPr>
          <a:xfrm>
            <a:off x="285840" y="4565520"/>
            <a:ext cx="8715240" cy="374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7"/>
          <a:stretch/>
        </p:blipFill>
        <p:spPr>
          <a:xfrm>
            <a:off x="285840" y="4981680"/>
            <a:ext cx="8715240" cy="3762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8"/>
          <a:stretch/>
        </p:blipFill>
        <p:spPr>
          <a:xfrm>
            <a:off x="285840" y="5440320"/>
            <a:ext cx="8715240" cy="5922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9"/>
          <a:stretch/>
        </p:blipFill>
        <p:spPr>
          <a:xfrm>
            <a:off x="285840" y="6119640"/>
            <a:ext cx="8715240" cy="3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380880" y="736560"/>
            <a:ext cx="8382240" cy="59720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2"/>
          <a:stretch/>
        </p:blipFill>
        <p:spPr>
          <a:xfrm>
            <a:off x="7072200" y="4286160"/>
            <a:ext cx="857520" cy="4050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3"/>
          <a:stretch/>
        </p:blipFill>
        <p:spPr>
          <a:xfrm>
            <a:off x="1143000" y="5786280"/>
            <a:ext cx="7715160" cy="4050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4"/>
          <a:stretch/>
        </p:blipFill>
        <p:spPr>
          <a:xfrm>
            <a:off x="1143000" y="6299280"/>
            <a:ext cx="771516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图片 1" descr=""/>
          <p:cNvPicPr/>
          <p:nvPr/>
        </p:nvPicPr>
        <p:blipFill>
          <a:blip r:embed="rId1"/>
          <a:stretch/>
        </p:blipFill>
        <p:spPr>
          <a:xfrm>
            <a:off x="847800" y="987480"/>
            <a:ext cx="7448400" cy="55800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2"/>
          <a:stretch/>
        </p:blipFill>
        <p:spPr>
          <a:xfrm>
            <a:off x="285840" y="988920"/>
            <a:ext cx="8715240" cy="9460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3"/>
          <a:stretch/>
        </p:blipFill>
        <p:spPr>
          <a:xfrm>
            <a:off x="285840" y="2011320"/>
            <a:ext cx="8715240" cy="7794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4"/>
          <a:stretch/>
        </p:blipFill>
        <p:spPr>
          <a:xfrm>
            <a:off x="285840" y="2905200"/>
            <a:ext cx="8715240" cy="4046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5"/>
          <a:stretch/>
        </p:blipFill>
        <p:spPr>
          <a:xfrm>
            <a:off x="285840" y="3417840"/>
            <a:ext cx="8715240" cy="4032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6"/>
          <a:stretch/>
        </p:blipFill>
        <p:spPr>
          <a:xfrm>
            <a:off x="285840" y="3892680"/>
            <a:ext cx="8715240" cy="7506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7"/>
          <a:stretch/>
        </p:blipFill>
        <p:spPr>
          <a:xfrm>
            <a:off x="285840" y="4738680"/>
            <a:ext cx="8715240" cy="4050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8"/>
          <a:stretch/>
        </p:blipFill>
        <p:spPr>
          <a:xfrm>
            <a:off x="285840" y="5238720"/>
            <a:ext cx="8715240" cy="4050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9"/>
          <a:stretch/>
        </p:blipFill>
        <p:spPr>
          <a:xfrm>
            <a:off x="285840" y="5786280"/>
            <a:ext cx="87152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1" descr=""/>
          <p:cNvPicPr/>
          <p:nvPr/>
        </p:nvPicPr>
        <p:blipFill>
          <a:blip r:embed="rId1"/>
          <a:stretch/>
        </p:blipFill>
        <p:spPr>
          <a:xfrm>
            <a:off x="352440" y="922320"/>
            <a:ext cx="8439120" cy="56656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2"/>
          <a:stretch/>
        </p:blipFill>
        <p:spPr>
          <a:xfrm>
            <a:off x="285840" y="917640"/>
            <a:ext cx="8715240" cy="4032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3"/>
          <a:stretch/>
        </p:blipFill>
        <p:spPr>
          <a:xfrm>
            <a:off x="285840" y="1428840"/>
            <a:ext cx="8715240" cy="4046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4"/>
          <a:stretch/>
        </p:blipFill>
        <p:spPr>
          <a:xfrm>
            <a:off x="3000240" y="4691160"/>
            <a:ext cx="1143000" cy="4046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5"/>
          <a:stretch/>
        </p:blipFill>
        <p:spPr>
          <a:xfrm>
            <a:off x="285840" y="6167520"/>
            <a:ext cx="871524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1" descr=""/>
          <p:cNvPicPr/>
          <p:nvPr/>
        </p:nvPicPr>
        <p:blipFill>
          <a:blip r:embed="rId1"/>
          <a:stretch/>
        </p:blipFill>
        <p:spPr>
          <a:xfrm>
            <a:off x="641520" y="758880"/>
            <a:ext cx="8037360" cy="60577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2"/>
          <a:stretch/>
        </p:blipFill>
        <p:spPr>
          <a:xfrm>
            <a:off x="285840" y="750960"/>
            <a:ext cx="8715240" cy="4032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3"/>
          <a:stretch/>
        </p:blipFill>
        <p:spPr>
          <a:xfrm>
            <a:off x="285840" y="1214280"/>
            <a:ext cx="8715240" cy="4050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4"/>
          <a:stretch/>
        </p:blipFill>
        <p:spPr>
          <a:xfrm>
            <a:off x="285840" y="1751040"/>
            <a:ext cx="8715240" cy="4032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5"/>
          <a:stretch/>
        </p:blipFill>
        <p:spPr>
          <a:xfrm>
            <a:off x="285840" y="2238480"/>
            <a:ext cx="8715240" cy="4046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6"/>
          <a:stretch/>
        </p:blipFill>
        <p:spPr>
          <a:xfrm>
            <a:off x="285840" y="2725560"/>
            <a:ext cx="8715240" cy="8128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7"/>
          <a:stretch/>
        </p:blipFill>
        <p:spPr>
          <a:xfrm>
            <a:off x="285840" y="3654360"/>
            <a:ext cx="8715240" cy="7984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8"/>
          <a:stretch/>
        </p:blipFill>
        <p:spPr>
          <a:xfrm>
            <a:off x="285840" y="4452840"/>
            <a:ext cx="8715240" cy="4050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9"/>
          <a:stretch/>
        </p:blipFill>
        <p:spPr>
          <a:xfrm>
            <a:off x="285840" y="5037120"/>
            <a:ext cx="8715240" cy="7700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10"/>
          <a:stretch/>
        </p:blipFill>
        <p:spPr>
          <a:xfrm>
            <a:off x="285840" y="5881680"/>
            <a:ext cx="8715240" cy="4050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11"/>
          <a:stretch/>
        </p:blipFill>
        <p:spPr>
          <a:xfrm>
            <a:off x="285840" y="6346800"/>
            <a:ext cx="871524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图片 1" descr=""/>
          <p:cNvPicPr/>
          <p:nvPr/>
        </p:nvPicPr>
        <p:blipFill>
          <a:blip r:embed="rId1"/>
          <a:stretch/>
        </p:blipFill>
        <p:spPr>
          <a:xfrm>
            <a:off x="352440" y="695160"/>
            <a:ext cx="8439120" cy="1438560"/>
          </a:xfrm>
          <a:prstGeom prst="rect">
            <a:avLst/>
          </a:prstGeom>
          <a:ln w="0">
            <a:noFill/>
          </a:ln>
        </p:spPr>
      </p:pic>
      <p:pic>
        <p:nvPicPr>
          <p:cNvPr id="1078" name="图片 2" descr=""/>
          <p:cNvPicPr/>
          <p:nvPr/>
        </p:nvPicPr>
        <p:blipFill>
          <a:blip r:embed="rId2"/>
          <a:stretch/>
        </p:blipFill>
        <p:spPr>
          <a:xfrm>
            <a:off x="781200" y="2133720"/>
            <a:ext cx="7866000" cy="47336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3"/>
          <a:stretch/>
        </p:blipFill>
        <p:spPr>
          <a:xfrm>
            <a:off x="6953400" y="5940360"/>
            <a:ext cx="85716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4T03:40:58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